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D9D2-85F5-45F3-A2DC-B62D4DDB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993-CCD4-4F0F-9128-EFD0938E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20E06-6B09-4CCE-BC86-5383DDEA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07BD8-C916-46D6-9A1A-99738C1A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806AF-BA64-457E-AB40-680DAB73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1424C-5837-4B42-A230-9E05F5C9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3F930-F7F6-4A99-A363-8CB44877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CB23E-6437-411E-A558-E041F52A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E0C31-2BA4-4C6C-82C6-847725F0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B0E10-D44E-4346-9552-3DC9E3FE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3F793-B47B-41F3-A4A6-94EACED8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70322-A0AB-408E-A0A8-91BE4191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CB97-47B7-4438-8FA6-0801972C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75543-B00A-4DE0-8C88-B95F47B7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E3BC9-734F-4824-BDCA-879CBECF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6EE58-79BF-4ACA-A251-B1F02445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ED696-7F33-467D-AB63-C03DFD5E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B4597-1B4C-4738-99CD-B4347FF8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2828D-4BD1-45CE-9B2E-BBCFF447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AFEC9-609D-4940-AB74-32D07843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5D157-2D9A-4212-A53C-BCA46B11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9F2B7-D30E-4722-A689-AFED1045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02A8D-42A6-45B7-9846-B070192B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0B2B-60C0-4BC0-AF99-9BF54293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E1044-0BE4-4C94-9BA3-861B9091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ECB62-AC1F-4EE3-A922-AF064E15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89C50-84E5-4BFE-BE6B-51FDFD80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E5C03-13DF-49EC-B198-6076AE0F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168BE-D404-4C60-AAA4-9432BBC4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FD242-CDF0-4EEC-911D-B8AEA9A5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B9707-0AFA-4FD1-9F9A-3A6572E4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990B6-6ECE-4837-B7E6-598D8DA9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F33B9-99EC-4B59-815D-5D6C80ED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7D8A6-654F-4BAC-9141-874A37C1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2EB2-95B5-4EE2-AFA9-B2900C0F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74565-198A-413D-8D8A-816F5806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1AB79-A584-4B8F-927C-372E12A4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C0087-8316-43D0-9E52-A66541CC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F97D1-C5E7-4017-A136-4EF34246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5BC37-A53B-40E5-B4F8-D02B3641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904CC-B6C5-486D-80D8-D6BF1CD9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57566-0C1A-4DB9-B58E-BA605FF7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5D812-641D-48EA-B17B-01153C05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7FF82-CCA9-4D69-80A5-FB65C646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A9E7A-5CC3-474A-BD26-BF380947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6C85-5992-40B4-B54F-ADE4E42C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7DA1D-67E4-4FB9-902A-865DD902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B960F-2367-4D55-95BC-783D4E33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71EFF-7C14-4331-AD6D-9BCD6768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522E6-195B-496E-A7A8-F0D486F7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6EA32-747D-48F3-BAD3-091DEDFD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F361-7DEE-48AC-B5D5-AEC878FE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ED82-B98F-4A65-9434-DF38C6DE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FC46-2D96-4B28-8506-D5A84EE5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3B27-7A38-40F4-AFCB-364AE93B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4342-85E3-45D5-A507-E056D177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688A-9F07-401B-A362-656A335E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B95F-20C8-4215-B953-A1E416F9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3BB8-F78B-494A-9AA0-632150D9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6981-D020-45A7-B8FE-3154BDE3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008E-6CA7-446D-BC6B-480837A7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2AA0-7851-4ECE-A869-17D645A1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AD6A4-0658-4584-8517-B69B39C7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DB501-C53C-4A3F-900F-677564FD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0CE67-2AC5-4931-A946-1686C4F8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10014-64F4-4759-95AE-DF645789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425B9-8806-4AC6-926F-CE632360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5DEA-5F90-424D-87FC-F66BA7F5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5BE90-EEE7-4F05-9309-15E1E635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20082-EC92-400E-9881-8ADD0CB0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1AD70-A7BA-44E0-B7BC-78E652A5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68726-4E7C-4BBE-9364-CA7EE11D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959E0-6982-4007-95A9-B8810F55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DF4EB-D0AD-4DEB-93C7-6F466D3E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D8DB2-3319-4B6E-9235-3F786FF9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FD812-BC42-4495-8176-1858BFC6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C5544-3221-484C-82BA-17AB9D2D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017C9-21AB-4EEF-A342-ADF6A633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FFF5-37A3-4B58-B24F-4DCB9D16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0C326-BD47-4FAC-82ED-7ECB1ABA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034F0-F9A0-412D-B997-35342A48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9071E-D832-4B71-991C-648F56B1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7B7CE-3522-4D24-B8F1-010E27DB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4E69A-ACD1-48DA-9AAD-E8DD4299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40450-D12C-4985-832B-44496B86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279D2-A96E-4C20-9B2D-AE4212BD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C5479-BC13-442B-BD08-4B3949BF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C2B9A-2556-4EA3-AB7E-C412CB1F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1E802-3D38-4A96-AC1E-86D2BE59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8E13-79E0-4DB3-8E65-A4FACB17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84949-7B63-440C-84B2-C5BC38FF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9F601-036C-4736-9709-84E87A83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92B24-B876-4CDA-87F8-18C55ABA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50B7B-AAB7-4FC2-A3DC-3F7AD654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19CE5-5967-427C-859A-FC3470C8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D7E25-DDC0-439C-BDD5-53F4A007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BEC70-7E0E-4843-9B5B-13BDAFF3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D7C05-C09B-4657-93CF-BD308E54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721B3-620F-4AF1-B773-4AAA5AD5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3C2D0-A327-48AE-A7AE-CA752E1F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A612-29A5-4071-BADF-7B6F8D21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A0FE7-F29E-4F19-843D-AFAFE211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54F50-F74B-4A99-877E-29B0BAAA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02DBB-FA8D-4AC2-9DC8-7D69592E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6C5C1-FE25-41CB-B083-B06D33DB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6346D-203D-4EEE-A79A-94962321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37455-B972-4E07-AD3F-A0B99E85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A3810-4398-40A7-A871-00C49B90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9EEB2-B0AA-47A7-831D-E0EE90BD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BC686-B4B2-492F-B937-8061D4CD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93E93-BE68-4E8B-959D-3A443CA6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A9A8-483D-45FB-9D12-14B29100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137AE-1290-4DEE-BD52-DCA70C1A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3F0F7-E45E-43FE-8290-22AA07EC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F6F5B-A462-483A-A7DB-AC5CC9E3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DC2C8-53DD-43CE-955C-E9052C73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361D1-4C38-4D9B-9D62-898F489F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7A634-C944-42A2-B459-8E947C1F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F61F2-83FE-44B2-9B8D-BAF578A3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4D495-67B4-492E-AD0E-4A208186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CD2C1-B8D7-477C-9AB5-3B36169C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A586B-061A-4E14-A227-AB3676FF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FEAC-9E3B-475D-9311-2CE6269D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1B940-FB49-4703-AB13-019E2459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F1549-2E09-49DF-88E4-66922CBE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C345D-6F0E-4C01-AF4D-91E95369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A654C-C7BA-42FE-B571-72E63D12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9AA3B-E062-48B6-A7C9-D973DBC1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DBF05-1857-4B84-8280-2D795717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2F024-1446-485D-8C05-154DE60E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5381D-9651-44D1-AFA0-7F3973AD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F4945-0999-464F-BAEA-5BEA2E40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9B136-AA7E-4C54-A565-9DF54D8F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5F6-490D-4A34-824A-8B2B177F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86EBC-DC7C-4C17-BFD1-1A3A2D84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47C44-8F7E-479C-A548-7083047C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3C51E-658A-4F7E-8CD8-3F38B7A4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7AADD-80D5-41B7-908D-6EBC8A29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CE7F3-92D7-4286-8831-BCD47CA7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9FE07-7DFA-4BC5-9CDF-FF0081C3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DACCD-2A9A-4663-BD99-992FC184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B4BAA-E835-4E01-9699-33C0FBA4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5A82B-34B5-479F-BD6C-6E41036E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9F46A-F72F-41A8-855A-2B87821E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CE04-0A09-492A-96A3-10D23F44839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8013-8E8B-407A-9366-F38D607AE58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9BF3-6421-4F09-A87C-69900F49144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EC9C-3595-4717-BD1D-473C2165713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E489-8214-4D69-B858-019A9782ECC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677B-0E6E-448A-8617-7128E32FA24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708D-5D93-4BFA-BF56-CD70BC4BEEB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FE15-9C30-4392-9234-36BA085801C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97F4-C920-4C7D-8981-C7896DCC766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4E88-1388-4A46-BC0B-8C53BD6B9BC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FD1F-AD38-47D7-B974-6CC7DA3CC36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0C6C-9E6B-4118-A116-4DBD1CA1C27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25 Kto sa ti, Kriste, vyrovná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sa ti, Kriste, vyrovná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múdrosť tvojej podobná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lovom, skutkom učíš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hriešnych voláš zas a z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k spáse treba poznať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všetko ty si zjavil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lávy neba si sa vzd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re nás človekom sa st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nás si život polož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spásu nám si vydoby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š moc nás láskou obnov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riviesť domov k Otcov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 všetkom nám si príklad 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v službe iným verne stál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ebou mnohý svedok ši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z lásky tebe slúžiť chc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znášal utrpenie bô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kríž si niesť mu pomoh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ja chcem tebou dať sa vi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menu tvojmu vzdávať č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ňa očisť, prosím, pýchy zbav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 mojom srdci chrám si sprav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z milosti raz uzrieť smi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slávny domov, krásnu ze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5:38:41Z</dcterms:modified>
  <cp:revision>29</cp:revision>
  <dc:subject/>
  <dc:title>Je veľký náš Pán, on slávy je Kráľ Nech do všetkých strán  spev vrúcnych znie chvál.</dc:title>
</cp:coreProperties>
</file>